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F473-7E8D-4CFD-9BFC-9D02A4150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50F-5AE0-4F3A-BF9A-B293B550D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лывают по щел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D20-6E4E-4249-AEE4-F020033F5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на ответ и вставить,молод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8930-3614-4BCD-81BB-A2B8B1A59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C425-4A14-4DA8-B088-2893B473E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B66C-7AD8-4C08-8B29-3B0DD1E76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AB9A-47A5-4F83-BF3B-078675526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B0F-D9E1-464A-ADCE-5B4AC53C5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D84-CF3B-4604-BB1C-F48DDEADE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78D-A687-4531-919D-5B0C902B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A3C-2FA0-486A-9824-2FB86D3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C22-5A4C-4A78-A207-46F56B8D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391-FCC5-4E50-AE7C-BE4C19C8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A5A-2369-4E6D-AC7C-E67D1667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806-894F-43C0-91E2-5156DFCC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9D0-91BC-432B-9351-97951C66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580-4092-4ABE-A445-C8A42F8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4E4-241C-4E24-AE9C-5D729081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DCD-0B8F-4657-92CD-9CFB200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22C-9D93-4BE8-B335-7E5DEB3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CA6-C763-4950-96F3-A01C02E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9E8-47F5-4528-AA36-E4911D5C645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43920"/>
            <a:ext cx="910908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Ближайшая к Земле звезда  солнц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ша планета окружена атмосфер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Земля состоит из ядра ,  мантии , кор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 поверхности Земли много   вод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Все тела, находящиеся на Земле состоят из веществ  , которые образованы            молекулам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ятно 1 3"/>
          <p:cNvSpPr/>
          <p:nvPr/>
        </p:nvSpPr>
        <p:spPr>
          <a:xfrm>
            <a:off x="5364000" y="44280"/>
            <a:ext cx="2016360" cy="7207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Блок-схема: решение 4"/>
          <p:cNvSpPr/>
          <p:nvPr/>
        </p:nvSpPr>
        <p:spPr>
          <a:xfrm>
            <a:off x="4788000" y="1197000"/>
            <a:ext cx="3097080" cy="863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3564000" y="2637000"/>
            <a:ext cx="1079280" cy="287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Облако 6"/>
          <p:cNvSpPr/>
          <p:nvPr/>
        </p:nvSpPr>
        <p:spPr>
          <a:xfrm>
            <a:off x="4716360" y="2565360"/>
            <a:ext cx="172728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Облако 7"/>
          <p:cNvSpPr/>
          <p:nvPr/>
        </p:nvSpPr>
        <p:spPr>
          <a:xfrm>
            <a:off x="6516720" y="2565360"/>
            <a:ext cx="107964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Солнце 8"/>
          <p:cNvSpPr/>
          <p:nvPr/>
        </p:nvSpPr>
        <p:spPr>
          <a:xfrm>
            <a:off x="5580000" y="3573360"/>
            <a:ext cx="1871640" cy="863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7-конечная звезда 10"/>
          <p:cNvSpPr/>
          <p:nvPr/>
        </p:nvSpPr>
        <p:spPr>
          <a:xfrm>
            <a:off x="324000" y="5373720"/>
            <a:ext cx="1944360" cy="647640"/>
          </a:xfrm>
          <a:custGeom>
            <a:avLst/>
            <a:gdLst/>
            <a:ahLst/>
            <a:rect l="l" t="t" r="r" b="b"/>
            <a:pathLst>
              <a:path w="1944216" h="648072">
                <a:moveTo>
                  <a:pt x="-5" y="416779"/>
                </a:moveTo>
                <a:lnTo>
                  <a:pt x="299386" y="288421"/>
                </a:lnTo>
                <a:lnTo>
                  <a:pt x="192537" y="128359"/>
                </a:lnTo>
                <a:lnTo>
                  <a:pt x="672722" y="128359"/>
                </a:lnTo>
                <a:lnTo>
                  <a:pt x="972108" y="0"/>
                </a:lnTo>
                <a:lnTo>
                  <a:pt x="1271494" y="128359"/>
                </a:lnTo>
                <a:lnTo>
                  <a:pt x="1751679" y="128359"/>
                </a:lnTo>
                <a:lnTo>
                  <a:pt x="1644830" y="288421"/>
                </a:lnTo>
                <a:lnTo>
                  <a:pt x="1944221" y="416779"/>
                </a:lnTo>
                <a:lnTo>
                  <a:pt x="1511587" y="488013"/>
                </a:lnTo>
                <a:lnTo>
                  <a:pt x="1404734" y="648075"/>
                </a:lnTo>
                <a:lnTo>
                  <a:pt x="972108" y="576841"/>
                </a:lnTo>
                <a:lnTo>
                  <a:pt x="539482" y="648075"/>
                </a:lnTo>
                <a:lnTo>
                  <a:pt x="432629" y="488013"/>
                </a:lnTo>
                <a:lnTo>
                  <a:pt x="-5" y="4167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68360" y="6093000"/>
            <a:ext cx="2519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арств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5280" y="20034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ирус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Бактер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ст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670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ганизм состоит из орг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0012-012-Vnutrennee-stroenie-cheloveka"/>
          <p:cNvPicPr/>
          <p:nvPr/>
        </p:nvPicPr>
        <p:blipFill>
          <a:blip r:embed="rId1"/>
          <a:stretch/>
        </p:blipFill>
        <p:spPr>
          <a:xfrm>
            <a:off x="576360" y="765000"/>
            <a:ext cx="809928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1.Кровеносна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2. Дыхательна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3. Нервная систем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blsys1"/>
          <p:cNvPicPr/>
          <p:nvPr/>
        </p:nvPicPr>
        <p:blipFill>
          <a:blip r:embed="rId1"/>
          <a:stretch/>
        </p:blipFill>
        <p:spPr>
          <a:xfrm>
            <a:off x="179280" y="1773360"/>
            <a:ext cx="2071800" cy="482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Nd9GcRKjF308yQpOaCXW28SEDw4XeAkVM8T10XOOz49Adj-n6-WyLW-9g"/>
          <p:cNvPicPr/>
          <p:nvPr/>
        </p:nvPicPr>
        <p:blipFill>
          <a:blip r:embed="rId2"/>
          <a:stretch/>
        </p:blipFill>
        <p:spPr>
          <a:xfrm>
            <a:off x="2771640" y="2349360"/>
            <a:ext cx="2640240" cy="410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52_1"/>
          <p:cNvPicPr/>
          <p:nvPr/>
        </p:nvPicPr>
        <p:blipFill>
          <a:blip r:embed="rId3"/>
          <a:stretch/>
        </p:blipFill>
        <p:spPr>
          <a:xfrm>
            <a:off x="6084720" y="2060640"/>
            <a:ext cx="2597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Пищевар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выдел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опорно-двигательная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7" descr="ANd9GcRx2IihVSjZ5ZtOEgcJ-J4RKnXfX82rKsYf5Ocx1sd74cY_32JeFQ"/>
          <p:cNvPicPr/>
          <p:nvPr/>
        </p:nvPicPr>
        <p:blipFill>
          <a:blip r:embed="rId1"/>
          <a:stretch/>
        </p:blipFill>
        <p:spPr>
          <a:xfrm>
            <a:off x="0" y="2852640"/>
            <a:ext cx="2612880" cy="400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0005-005-Vydelitelnaja-sistema-cheloveka"/>
          <p:cNvPicPr/>
          <p:nvPr/>
        </p:nvPicPr>
        <p:blipFill>
          <a:blip r:embed="rId2"/>
          <a:stretch/>
        </p:blipFill>
        <p:spPr>
          <a:xfrm>
            <a:off x="2598840" y="2852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ANd9GcQNBI9VTOqpnf7JFjMsivbt_v5FqzTofsUVqWvXz92pWvWV2sJHbA"/>
          <p:cNvPicPr/>
          <p:nvPr/>
        </p:nvPicPr>
        <p:blipFill>
          <a:blip r:embed="rId3"/>
          <a:stretch/>
        </p:blipFill>
        <p:spPr>
          <a:xfrm>
            <a:off x="6215040" y="2879640"/>
            <a:ext cx="2965320" cy="4005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1311120" y="24526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406760" y="247320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7504200" y="24922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ловек мож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41300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ышать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Пит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виг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еагировать на происходящее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ыделять ненужные веществ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змножатьс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5"/>
          <p:cNvSpPr/>
          <p:nvPr/>
        </p:nvSpPr>
        <p:spPr>
          <a:xfrm flipH="1">
            <a:off x="2050560" y="2421000"/>
            <a:ext cx="10810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8400" y="0"/>
            <a:ext cx="898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еда обитания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1512720" y="1406520"/>
            <a:ext cx="611856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ы сре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339920" y="2990880"/>
            <a:ext cx="163656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60640" y="3062160"/>
            <a:ext cx="1540080" cy="368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766200" y="3567240"/>
            <a:ext cx="1898280" cy="103140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в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1" name="Прямая со стрелкой 2"/>
          <p:cNvCxnSpPr>
            <a:stCxn id="207" idx="4"/>
          </p:cNvCxnSpPr>
          <p:nvPr/>
        </p:nvCxnSpPr>
        <p:spPr>
          <a:xfrm>
            <a:off x="4571640" y="2487600"/>
            <a:ext cx="108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6012000" y="2421000"/>
            <a:ext cx="1008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Rectangle 10"/>
          <p:cNvSpPr/>
          <p:nvPr/>
        </p:nvSpPr>
        <p:spPr>
          <a:xfrm>
            <a:off x="1286640" y="3494160"/>
            <a:ext cx="1735200" cy="1465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мперату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лажн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ещени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осфер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980160" y="3567240"/>
            <a:ext cx="1334520" cy="6998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ществ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31280" y="3068640"/>
            <a:ext cx="1895400" cy="36828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7600" y="115920"/>
            <a:ext cx="836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доровье и факторы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&amp;Pcy;&amp;iecy;&amp;rcy;&amp;iecy;&amp;lcy;&amp;ocy;&amp;mcy;&amp;ycy; &amp;kcy;&amp;ocy;&amp;scy;&amp;tcy;&amp;iecy;&amp;jcy;. &amp;Pcy;&amp;rcy;&amp;icy;&amp;zcy;&amp;ncy;&amp;acy;&amp;kcy;&amp;icy;, &amp;pcy;&amp;iecy;&amp;rcy;&amp;vcy;&amp;acy;&amp;yacy; &amp;pcy;&amp;ocy;&amp;mcy;&amp;ocy;&amp;shchcy;&amp;softcy;"/>
          <p:cNvPicPr/>
          <p:nvPr/>
        </p:nvPicPr>
        <p:blipFill>
          <a:blip r:embed="rId1"/>
          <a:stretch/>
        </p:blipFill>
        <p:spPr>
          <a:xfrm>
            <a:off x="36360" y="1197000"/>
            <a:ext cx="295128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ANd9GcTBO5LB3GmMrEKlajqbP8gZz1VSOwKA4bAqVABxij1Kfw6fK4Lx"/>
          <p:cNvPicPr/>
          <p:nvPr/>
        </p:nvPicPr>
        <p:blipFill>
          <a:blip r:embed="rId2"/>
          <a:stretch/>
        </p:blipFill>
        <p:spPr>
          <a:xfrm>
            <a:off x="2612880" y="3905280"/>
            <a:ext cx="368784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2012-01-07_181535"/>
          <p:cNvPicPr/>
          <p:nvPr/>
        </p:nvPicPr>
        <p:blipFill>
          <a:blip r:embed="rId3"/>
          <a:stretch/>
        </p:blipFill>
        <p:spPr>
          <a:xfrm>
            <a:off x="6264360" y="1413000"/>
            <a:ext cx="2771640" cy="3752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3163320" y="34290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Обморожени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314280" y="4314960"/>
            <a:ext cx="21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Перелом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6741720" y="5106960"/>
            <a:ext cx="231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Солнечны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удар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ы узнали, ч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720" y="980640"/>
            <a:ext cx="9124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 принадлежит к царству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изм человека состоит из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ы образуют…………………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, как и животное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На человека действуют…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Их можно разделить на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Здоровье зависит от………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353880"/>
            <a:ext cx="754380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берите правильный от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Земная кора образована:……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орами, б. горными породами, в. магматическими породами, г. осадочными пород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 Горные породы, которые использует человек называются 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металлами, б. рудами, в. полезными ископаемыми, г. месторожд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Верхний плодородный слой земной коры –это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рунт, б. литосфера, в. глина, г. поч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.Способность почвы, удовлетворять потребности растений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эрозия, б. плодородие, в. чернозём, г. горизо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.Почвы не бываю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торфяные, б. глинистые, в. песчаные, г. подзолистые, г. магматическ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AppData\Local\Microsoft\Windows\Temporary Internet Files\Content.IE5\QP4TXIEF\MC900441310[1].png"/>
          <p:cNvPicPr/>
          <p:nvPr/>
        </p:nvPicPr>
        <p:blipFill>
          <a:blip r:embed="rId1"/>
          <a:stretch/>
        </p:blipFill>
        <p:spPr>
          <a:xfrm>
            <a:off x="-108000" y="49212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4359240" y="450720"/>
            <a:ext cx="2370240" cy="897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3"/>
          <a:stretch/>
        </p:blipFill>
        <p:spPr>
          <a:xfrm>
            <a:off x="542880" y="1841400"/>
            <a:ext cx="2371680" cy="8953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4"/>
          <a:stretch/>
        </p:blipFill>
        <p:spPr>
          <a:xfrm>
            <a:off x="6950160" y="2901960"/>
            <a:ext cx="2376360" cy="8953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1" descr=""/>
          <p:cNvPicPr/>
          <p:nvPr/>
        </p:nvPicPr>
        <p:blipFill>
          <a:blip r:embed="rId5"/>
          <a:stretch/>
        </p:blipFill>
        <p:spPr>
          <a:xfrm>
            <a:off x="7023240" y="3638520"/>
            <a:ext cx="23698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6"/>
          <a:stretch/>
        </p:blipFill>
        <p:spPr>
          <a:xfrm>
            <a:off x="2846520" y="4413240"/>
            <a:ext cx="2371680" cy="8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AppData\Local\Microsoft\Windows\Temporary Internet Files\Content.IE5\QP4TXIEF\MC900441310[1].png"/>
          <p:cNvPicPr/>
          <p:nvPr/>
        </p:nvPicPr>
        <p:blipFill>
          <a:blip r:embed="rId7"/>
          <a:stretch/>
        </p:blipFill>
        <p:spPr>
          <a:xfrm>
            <a:off x="-108000" y="157176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user\AppData\Local\Microsoft\Windows\Temporary Internet Files\Content.IE5\QP4TXIEF\MC900441310[1].png"/>
          <p:cNvPicPr/>
          <p:nvPr/>
        </p:nvPicPr>
        <p:blipFill>
          <a:blip r:embed="rId8"/>
          <a:stretch/>
        </p:blipFill>
        <p:spPr>
          <a:xfrm>
            <a:off x="-108000" y="292428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AppData\Local\Microsoft\Windows\Temporary Internet Files\Content.IE5\QP4TXIEF\MC900441310[1].png"/>
          <p:cNvPicPr/>
          <p:nvPr/>
        </p:nvPicPr>
        <p:blipFill>
          <a:blip r:embed="rId9"/>
          <a:stretch/>
        </p:blipFill>
        <p:spPr>
          <a:xfrm>
            <a:off x="-108000" y="3716280"/>
            <a:ext cx="631800" cy="63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AppData\Local\Microsoft\Windows\Temporary Internet Files\Content.IE5\QP4TXIEF\MC900441310[1].png"/>
          <p:cNvPicPr/>
          <p:nvPr/>
        </p:nvPicPr>
        <p:blipFill>
          <a:blip r:embed="rId10"/>
          <a:stretch/>
        </p:blipFill>
        <p:spPr>
          <a:xfrm>
            <a:off x="-108000" y="4437000"/>
            <a:ext cx="631800" cy="633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>
            <a:hlinkClick r:id="rId11" action="ppaction://hlinksldjump"/>
          </p:cNvPr>
          <p:cNvSpPr/>
          <p:nvPr/>
        </p:nvSpPr>
        <p:spPr>
          <a:xfrm>
            <a:off x="-181080" y="-171360"/>
            <a:ext cx="9506160" cy="727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63640" y="1052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3780000" y="2492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4572000" y="3500280"/>
            <a:ext cx="11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1692360" y="4292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19"/>
          <p:cNvSpPr/>
          <p:nvPr/>
        </p:nvSpPr>
        <p:spPr>
          <a:xfrm>
            <a:off x="179280" y="5373720"/>
            <a:ext cx="27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Умножение 5"/>
          <p:cNvSpPr/>
          <p:nvPr/>
        </p:nvSpPr>
        <p:spPr>
          <a:xfrm>
            <a:off x="63360" y="189000"/>
            <a:ext cx="8829720" cy="6453000"/>
          </a:xfrm>
          <a:custGeom>
            <a:avLst/>
            <a:gdLst/>
            <a:ahLst/>
            <a:rect l="l" t="t" r="r" b="b"/>
            <a:pathLst>
              <a:path w="8828565" h="6453336">
                <a:moveTo>
                  <a:pt x="1672553" y="2162613"/>
                </a:moveTo>
                <a:lnTo>
                  <a:pt x="2568248" y="937247"/>
                </a:lnTo>
                <a:lnTo>
                  <a:pt x="4414283" y="2286626"/>
                </a:lnTo>
                <a:lnTo>
                  <a:pt x="6260317" y="937247"/>
                </a:lnTo>
                <a:lnTo>
                  <a:pt x="7156012" y="2162613"/>
                </a:lnTo>
                <a:lnTo>
                  <a:pt x="5700319" y="3226668"/>
                </a:lnTo>
                <a:lnTo>
                  <a:pt x="7156012" y="4290723"/>
                </a:lnTo>
                <a:lnTo>
                  <a:pt x="6260317" y="5516089"/>
                </a:lnTo>
                <a:lnTo>
                  <a:pt x="4414283" y="4166710"/>
                </a:lnTo>
                <a:lnTo>
                  <a:pt x="2568248" y="5516089"/>
                </a:lnTo>
                <a:lnTo>
                  <a:pt x="1672553" y="4290723"/>
                </a:lnTo>
                <a:lnTo>
                  <a:pt x="3128246" y="3226668"/>
                </a:lnTo>
                <a:lnTo>
                  <a:pt x="1672553" y="21626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516640"/>
            <a:ext cx="2035080" cy="1092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>
            <a:hlinkClick r:id="rId6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оугольник 13">
            <a:hlinkClick r:id="rId7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оугольник 14">
            <a:hlinkClick r:id="rId8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5">
            <a:hlinkClick r:id="rId9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оугольник 16">
            <a:hlinkClick r:id="rId10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7805880" y="5149800"/>
            <a:ext cx="1374480" cy="1374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108000" y="1052640"/>
            <a:ext cx="7697880" cy="1152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34920" y="5300640"/>
            <a:ext cx="7634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21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22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23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4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5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Управляющая кнопка: далее 26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2116080" y="5437080"/>
            <a:ext cx="1376280" cy="1376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08000" y="2205000"/>
            <a:ext cx="589896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3995640" y="4797360"/>
            <a:ext cx="54007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34920" y="5334120"/>
            <a:ext cx="169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Умножение 21"/>
          <p:cNvSpPr/>
          <p:nvPr/>
        </p:nvSpPr>
        <p:spPr>
          <a:xfrm>
            <a:off x="623880" y="511200"/>
            <a:ext cx="7835760" cy="5581800"/>
          </a:xfrm>
          <a:custGeom>
            <a:avLst/>
            <a:gdLst/>
            <a:ahLst/>
            <a:rect l="l" t="t" r="r" b="b"/>
            <a:pathLst>
              <a:path w="7835778" h="5581340">
                <a:moveTo>
                  <a:pt x="1501160" y="1875109"/>
                </a:moveTo>
                <a:lnTo>
                  <a:pt x="2262756" y="805887"/>
                </a:lnTo>
                <a:lnTo>
                  <a:pt x="3917889" y="1984821"/>
                </a:lnTo>
                <a:lnTo>
                  <a:pt x="5573022" y="805887"/>
                </a:lnTo>
                <a:lnTo>
                  <a:pt x="6334618" y="1875109"/>
                </a:lnTo>
                <a:lnTo>
                  <a:pt x="5049240" y="2790670"/>
                </a:lnTo>
                <a:lnTo>
                  <a:pt x="6334618" y="3706231"/>
                </a:lnTo>
                <a:lnTo>
                  <a:pt x="5573022" y="4775453"/>
                </a:lnTo>
                <a:lnTo>
                  <a:pt x="3917889" y="3596519"/>
                </a:lnTo>
                <a:lnTo>
                  <a:pt x="2262756" y="4775453"/>
                </a:lnTo>
                <a:lnTo>
                  <a:pt x="1501160" y="3706231"/>
                </a:lnTo>
                <a:lnTo>
                  <a:pt x="2786538" y="2790670"/>
                </a:lnTo>
                <a:lnTo>
                  <a:pt x="1501160" y="18751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4276800" y="5437080"/>
            <a:ext cx="1374840" cy="1376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108000" y="2708280"/>
            <a:ext cx="590400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5958000" y="4797360"/>
            <a:ext cx="3438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34920" y="5334120"/>
            <a:ext cx="3835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179280" y="5437080"/>
            <a:ext cx="1376640" cy="1376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108000" y="3357720"/>
            <a:ext cx="5040360" cy="431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Умножение 14"/>
          <p:cNvSpPr/>
          <p:nvPr/>
        </p:nvSpPr>
        <p:spPr>
          <a:xfrm>
            <a:off x="1258920" y="514440"/>
            <a:ext cx="662616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оугольник 15"/>
          <p:cNvSpPr/>
          <p:nvPr/>
        </p:nvSpPr>
        <p:spPr>
          <a:xfrm>
            <a:off x="1835280" y="4797360"/>
            <a:ext cx="7561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Умножение 16" hidden="1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6221520" y="5370480"/>
            <a:ext cx="1374840" cy="1374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108000" y="3860640"/>
            <a:ext cx="619272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7669080" y="4797360"/>
            <a:ext cx="1727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34920" y="5334120"/>
            <a:ext cx="592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23"/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Прямоугольник 24"/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ловек и его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ы долж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 к царству каких организмов принадлеж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ыяснить какими свойствами обладае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знать из чего состо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, от чего зависит здоровье челове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6:03:05Z</dcterms:created>
  <dc:creator>user</dc:creator>
  <dc:description/>
  <dc:language>en-US</dc:language>
  <cp:lastModifiedBy>user</cp:lastModifiedBy>
  <dcterms:modified xsi:type="dcterms:W3CDTF">2013-03-14T11:36:14Z</dcterms:modified>
  <cp:revision>46</cp:revision>
  <dc:subject/>
  <dc:title>Подберите правильный ответ</dc:title>
</cp:coreProperties>
</file>